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0"/>
            <a:ext cx="6814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dt" idx="7"/>
          </p:nvPr>
        </p:nvSpPr>
        <p:spPr>
          <a:xfrm>
            <a:off x="3862440" y="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sldImg"/>
          </p:nvPr>
        </p:nvSpPr>
        <p:spPr>
          <a:xfrm>
            <a:off x="92700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body"/>
          </p:nvPr>
        </p:nvSpPr>
        <p:spPr>
          <a:xfrm>
            <a:off x="907560" y="4721040"/>
            <a:ext cx="4999320" cy="447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ftr" idx="8"/>
          </p:nvPr>
        </p:nvSpPr>
        <p:spPr>
          <a:xfrm>
            <a:off x="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 type="sldNum" idx="9"/>
          </p:nvPr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69A-431A-48D8-B8E2-748FEB480E4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C82AB-58A0-47F5-B7D5-1BA9E1469F5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07560" y="4721040"/>
            <a:ext cx="49993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62440" y="9445680"/>
            <a:ext cx="29527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DBBB5-D41E-4351-BE5B-84A597890AD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92700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07560" y="4721040"/>
            <a:ext cx="499932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25819-6910-4C66-84BA-579A15CE42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A013-3273-4D79-9BE1-03EBC73E3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D5BA-5F74-4D6A-A52B-9590882E3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E63-68BD-427A-A41F-4DAFAC80E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61FF9-FFEB-4D5B-9C0B-7195051BC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7149-06DE-40D9-AD8B-FCB607E9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6734-EDA3-42B8-9764-BA2C30D35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01455-7732-4071-868C-27192BD2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E0368-8D0D-4C9D-A794-C923E7A5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AD05-3C4E-4260-BDFE-AE13277B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B44F6-E4BF-489C-A3E1-94696954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1D94-CF2C-4386-A25B-5A7634C1A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88E7-304C-4347-863C-22883D53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7DBE8-17E2-4BA6-B068-0E3D27440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D97A0-9EEA-484F-A416-FD0225C99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27FA-4A60-45DB-AE02-6895E1E9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4C96E-DD86-4BB0-9043-BF631631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0D17-A5E6-426D-BFD3-7231D3B71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F0E82-1E22-4F2F-A47D-B68A79EDD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BF96-A143-437C-AB5A-98C3E7EE9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6E93-555D-4066-AEE8-8AF6D61EC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3672-50A6-4B36-9A36-8B07F1E3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95F8-5419-4C8B-A30C-A0943F2B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54D-3116-4470-B85E-4C2F04FD9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F67DF-0907-4A7A-B851-05BADC55AD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3074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3080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3081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3082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3083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3084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3085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3086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3087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3088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3089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3090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3091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3092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3093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3094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3095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3096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3097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3098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3099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3100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3101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C83E-C301-4E0A-AE1F-BE2208723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Colaiste Dun Iascaigh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Incoming First Ye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Information for Parents/Guardi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RAIN FOOD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Object 1027" descr=""/>
          <p:cNvPicPr/>
          <p:nvPr/>
        </p:nvPicPr>
        <p:blipFill>
          <a:blip r:embed="rId1"/>
          <a:stretch/>
        </p:blipFill>
        <p:spPr>
          <a:xfrm>
            <a:off x="1442880" y="1828800"/>
            <a:ext cx="2257560" cy="365760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Water/ Fish oil/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gular exercis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ut out sugary drinks, tea, coffe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t plenty of slee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n relaxation 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ots of different stimuli and 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SECOND LEVEL EDUC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gger Year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igger Buil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re subjec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More than one teac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mework in each subjec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Junior Certificat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3" name="Object 4" descr=""/>
          <p:cNvPicPr/>
          <p:nvPr/>
        </p:nvPicPr>
        <p:blipFill>
          <a:blip r:embed="rId1"/>
          <a:stretch/>
        </p:blipFill>
        <p:spPr>
          <a:xfrm>
            <a:off x="4611600" y="2347920"/>
            <a:ext cx="3770280" cy="26193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CHAN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eenag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bies agai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-educationa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mall fish, Big pon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Place in famil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TEREST of Parents/Guardia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6" name="Object 4" descr=""/>
          <p:cNvPicPr/>
          <p:nvPr/>
        </p:nvPicPr>
        <p:blipFill>
          <a:blip r:embed="rId1"/>
          <a:stretch/>
        </p:blipFill>
        <p:spPr>
          <a:xfrm>
            <a:off x="4611600" y="2502000"/>
            <a:ext cx="3770280" cy="23112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How We Hel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omic Sans MS"/>
              </a:rPr>
              <a:t>st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 Year Are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Year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Cara Grou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Monito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(Pastoral) Care Team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Paren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89" name="Picture 1029" descr="bd06518_"/>
          <p:cNvPicPr/>
          <p:nvPr/>
        </p:nvPicPr>
        <p:blipFill>
          <a:blip r:embed="rId1"/>
          <a:stretch/>
        </p:blipFill>
        <p:spPr>
          <a:xfrm>
            <a:off x="4610160" y="2198520"/>
            <a:ext cx="3771720" cy="29181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ASTORAL CARE SYSTEM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Induction Da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ear H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ounsello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Chaplai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Religion Teac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ny</a:t>
            </a: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 Teac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eaders/Car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2" name="Object 5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Anti-Bullying Polic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No Blame’ procedure on first offenc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tudents asked to write what happened and investigat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tudents spoken with and given opportunity to chan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IE" sz="2800" spc="-1" strike="noStrike" baseline="30000">
                <a:solidFill>
                  <a:srgbClr val="000000"/>
                </a:solidFill>
                <a:latin typeface="Comic Sans MS"/>
              </a:rPr>
              <a:t>nd</a:t>
            </a: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 occurrence far more seriou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ee Handbook for full detail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ocial Media / Tech Smart but not always person smart! – Talk to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2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SHARING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IS CAR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nform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Vigi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Knowled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roubl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Difficult Decis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7" name="Object 6" descr=""/>
          <p:cNvPicPr/>
          <p:nvPr/>
        </p:nvPicPr>
        <p:blipFill>
          <a:blip r:embed="rId1"/>
          <a:stretch/>
        </p:blipFill>
        <p:spPr>
          <a:xfrm>
            <a:off x="685800" y="1952640"/>
            <a:ext cx="3809880" cy="4067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-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TUDY HI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Pla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a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Ventil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Background musi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ame atmosphere as in Exam hall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Object 4" descr=""/>
          <p:cNvPicPr/>
          <p:nvPr/>
        </p:nvPicPr>
        <p:blipFill>
          <a:blip r:embed="rId1"/>
          <a:stretch/>
        </p:blipFill>
        <p:spPr>
          <a:xfrm>
            <a:off x="4611600" y="1886040"/>
            <a:ext cx="3770280" cy="35431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W LONG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2" name="Object 3" descr=""/>
          <p:cNvPicPr/>
          <p:nvPr/>
        </p:nvPicPr>
        <p:blipFill>
          <a:blip r:embed="rId1"/>
          <a:stretch/>
        </p:blipFill>
        <p:spPr>
          <a:xfrm>
            <a:off x="685800" y="2163600"/>
            <a:ext cx="3770280" cy="2988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omework soon after arriving hom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Difference between Study / Homewor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e varies from 1st to 6th year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Time - managemen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ELP FOR THOSE AT HOM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5" name="Object 3" descr=""/>
          <p:cNvPicPr/>
          <p:nvPr/>
        </p:nvPicPr>
        <p:blipFill>
          <a:blip r:embed="rId1"/>
          <a:stretch/>
        </p:blipFill>
        <p:spPr>
          <a:xfrm>
            <a:off x="685800" y="2355840"/>
            <a:ext cx="3770280" cy="260352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List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hare your thoughts and feel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elp teach self-disciplin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Hu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Get Hel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here you can get information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324000" y="155736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Qualifax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qualifax.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ational Council for Curriculum and Assessment.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  -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ncca.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areersportal   -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areersportal.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entral Applications Office (CAO)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     -  cao.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State Examinations Commission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-  sec.i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960120" indent="-1918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Our School!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Oval 3"/>
          <p:cNvSpPr/>
          <p:nvPr/>
        </p:nvSpPr>
        <p:spPr>
          <a:xfrm>
            <a:off x="1371600" y="762120"/>
            <a:ext cx="6705720" cy="548640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Oval 4"/>
          <p:cNvSpPr/>
          <p:nvPr/>
        </p:nvSpPr>
        <p:spPr>
          <a:xfrm>
            <a:off x="1752480" y="1219320"/>
            <a:ext cx="5791320" cy="457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Engl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Iris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th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emat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istor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Geograph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CSP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PH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3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3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Oval 2"/>
          <p:cNvSpPr/>
          <p:nvPr/>
        </p:nvSpPr>
        <p:spPr>
          <a:xfrm>
            <a:off x="1143000" y="685800"/>
            <a:ext cx="7467480" cy="5867280"/>
          </a:xfrm>
          <a:prstGeom prst="ellipse">
            <a:avLst/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Ar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usi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Language</a:t>
            </a: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Home Econom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Technical Graph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terials Tech. W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Materials Tech. Metalwor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3200" spc="-1" strike="noStrike">
                <a:solidFill>
                  <a:srgbClr val="000000"/>
                </a:solidFill>
                <a:latin typeface="Times New Roman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Business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8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ATERIALS TECH. METAL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KILLS, filing/lathe/drill/joining/electronics/design and mak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ACTICAL, (H)= 150/400 (O)=300/400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4periods per we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ake pieces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Theory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ECHNOLOG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aterials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-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wood, plastic,metal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Mechanisms,gears,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motors 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raphics,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(drawing)</a:t>
            </a: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electronic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Project = 50%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Written/Theory = 50%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5 class perio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OME ECONOMIC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5 se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ood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onsumer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ocial &amp; Health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source Management &amp; Home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284400" indent="-2844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Textile Stud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Object 4" descr=""/>
          <p:cNvPicPr/>
          <p:nvPr/>
        </p:nvPicPr>
        <p:blipFill>
          <a:blip r:embed="rId1"/>
          <a:stretch/>
        </p:blipFill>
        <p:spPr>
          <a:xfrm>
            <a:off x="4611600" y="1959120"/>
            <a:ext cx="3770280" cy="33955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FREN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GERM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SPANIS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9" name="Picture 6" descr="PE01832_"/>
          <p:cNvPicPr/>
          <p:nvPr/>
        </p:nvPicPr>
        <p:blipFill>
          <a:blip r:embed="rId1"/>
          <a:stretch/>
        </p:blipFill>
        <p:spPr>
          <a:xfrm>
            <a:off x="4307040" y="1897200"/>
            <a:ext cx="3773160" cy="34430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LANGUAG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One European</a:t>
            </a: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 language required for NUI universities.(except science, engineering,IT, nursing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UCC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UC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NUI MAYNOOT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NUI GALWA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2" name="Picture 6" descr="BD05297_"/>
          <p:cNvPicPr/>
          <p:nvPr/>
        </p:nvPicPr>
        <p:blipFill>
          <a:blip r:embed="rId1"/>
          <a:stretch/>
        </p:blipFill>
        <p:spPr>
          <a:xfrm>
            <a:off x="4611600" y="2073240"/>
            <a:ext cx="3770280" cy="3166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CSP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he Individual and Citizenshi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he Community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he State – Ireland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Ireland and the Worl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ssessment 40%Exam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5" name="Picture 7" descr="BD18239_"/>
          <p:cNvPicPr/>
          <p:nvPr/>
        </p:nvPicPr>
        <p:blipFill>
          <a:blip r:embed="rId1"/>
          <a:stretch/>
        </p:blipFill>
        <p:spPr>
          <a:xfrm>
            <a:off x="4673520" y="1828800"/>
            <a:ext cx="364356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7c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How to Choose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Interes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Lik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Curiosity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Strength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Willing to work at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800" spc="-1" strike="noStrike">
                <a:solidFill>
                  <a:srgbClr val="000000"/>
                </a:solidFill>
                <a:latin typeface="Comic Sans MS"/>
              </a:rPr>
              <a:t>Futur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8" name="Picture 6" descr="PE01496_"/>
          <p:cNvPicPr/>
          <p:nvPr/>
        </p:nvPicPr>
        <p:blipFill>
          <a:blip r:embed="rId1"/>
          <a:stretch/>
        </p:blipFill>
        <p:spPr>
          <a:xfrm>
            <a:off x="4776840" y="1828800"/>
            <a:ext cx="3435120" cy="3657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EST ADVIC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30" name="Object 3" descr=""/>
          <p:cNvPicPr/>
          <p:nvPr/>
        </p:nvPicPr>
        <p:blipFill>
          <a:blip r:embed="rId1"/>
          <a:stretch/>
        </p:blipFill>
        <p:spPr>
          <a:xfrm>
            <a:off x="685800" y="2075040"/>
            <a:ext cx="3770280" cy="316512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6112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BALANC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or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p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club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friend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What do you want your child to be when they grow up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SUCCESSFU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HAP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GO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CHIEVE THEIR FULLEST POTENTI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EDUCATION OFFERS CHOI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Our Student’s destination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72% - CAO/UCAS/EUNICA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10% - Training/Trades/Employ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12% - PL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5% - Repeating L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1%  - unavailabl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more than 20% taking a year out! Gap Year)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Colaiste Dun Iascaigh</a:t>
            </a:r>
            <a:br>
              <a:rPr sz="4400"/>
            </a:b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1</a:t>
            </a:r>
            <a:r>
              <a:rPr b="0" lang="en-IE" sz="4400" spc="-1" strike="noStrike" baseline="30000">
                <a:solidFill>
                  <a:srgbClr val="ff0000"/>
                </a:solidFill>
                <a:latin typeface="Comic Sans MS"/>
              </a:rPr>
              <a:t>st</a:t>
            </a:r>
            <a:r>
              <a:rPr b="0" lang="en-IE" sz="4400" spc="-1" strike="noStrike">
                <a:solidFill>
                  <a:srgbClr val="ff0000"/>
                </a:solidFill>
                <a:latin typeface="Comic Sans MS"/>
              </a:rPr>
              <a:t> year progress meeting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800" spc="-1" strike="noStrike">
                <a:solidFill>
                  <a:srgbClr val="000000"/>
                </a:solidFill>
                <a:latin typeface="Comic Sans MS"/>
              </a:rPr>
              <a:t>Have they settled in yet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Wor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Their wor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ave I fri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Do I belong to a grou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Where do I go to for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Parent worr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Weight of ba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mount of 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ow tired they ar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re they making frien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Are they eating a lunch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Teacher/School worri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440"/>
            <a:ext cx="7696080" cy="383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an they understand what I am do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Can they concentrate for a class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re they trying their best in class and at ho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Are they hap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3200" spc="-1" strike="noStrike">
                <a:solidFill>
                  <a:srgbClr val="000000"/>
                </a:solidFill>
                <a:latin typeface="Comic Sans MS"/>
              </a:rPr>
              <a:t>Have they made frie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So what is normal in term 1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It is ok to.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Be exhaust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Fall in and out of friendship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Be a little anxious about tests/exa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o say you don’t understand anything about…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It is not ok to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Become withdraw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Have no friends/contac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pend a lot of time on Facebook/Ga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Not sleep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Not eat wel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Be over anxiou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omic Sans MS"/>
              </a:rPr>
              <a:t>Advice for now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Stud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Do ho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Stay focuse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Prepare for Christmas Test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alk to teachers/parents about difficult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2400" spc="-1" strike="noStrike">
                <a:solidFill>
                  <a:srgbClr val="000000"/>
                </a:solidFill>
                <a:latin typeface="Comic Sans MS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heck the home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Encourage them to do homework well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Tell them to prepare for Xmas test by starting now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heck txt/email/faceboo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000000"/>
                </a:solidFill>
                <a:latin typeface="Comic Sans MS"/>
              </a:rPr>
              <a:t>Contact us at school for help and suggestion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000000"/>
                </a:solidFill>
                <a:uFillTx/>
                <a:latin typeface="Comic Sans MS"/>
              </a:rPr>
              <a:t>You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can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GB" sz="4400" spc="-1" strike="noStrike">
                <a:solidFill>
                  <a:srgbClr val="000000"/>
                </a:solidFill>
                <a:latin typeface="Comic Sans MS"/>
              </a:rPr>
              <a:t>do</a:t>
            </a: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 make a difference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A home that nurtures a learning culture teaches children that education is important and to be valu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6" name="Object 1028" descr=""/>
          <p:cNvPicPr/>
          <p:nvPr/>
        </p:nvPicPr>
        <p:blipFill>
          <a:blip r:embed="rId1"/>
          <a:stretch/>
        </p:blipFill>
        <p:spPr>
          <a:xfrm>
            <a:off x="4611600" y="1936800"/>
            <a:ext cx="3770280" cy="3441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The Home Matte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Research shows that support from parents/guardians is the single most important driver for pupils’ success at school.” (S.Parso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If children are motivated and know how to learn, they will be well equipped to deal with whatever life holds for them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OUR EXPERIENCE AFFECTS OUR  UNDERSTANDI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TEACHING AND LEARNING METHODS HAVE CHANGED OVER THE YEA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mic Sans MS"/>
              </a:rPr>
              <a:t>YOU DO NOT HAVE TO KNOW EVERYTHING - BUT BE INTERESTED IN FINDING OU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042920" y="475920"/>
            <a:ext cx="7058160" cy="51800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omic Sans MS"/>
              </a:rPr>
              <a:t>ALWAYS RESPOND TO QUESTIONS FROM CHILDREN OR THEY MAY LEARN NOT TO ASK ANYMO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647720" y="320040"/>
            <a:ext cx="69840" cy="72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REMEMB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7702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HOW YOU REACTED AND FELT WHEN…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WALKE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RODE A BIK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SANG A SO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Comic Sans MS"/>
              </a:rPr>
              <a:t>KICKED A BA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5" name="Object 1028" descr=""/>
          <p:cNvPicPr/>
          <p:nvPr/>
        </p:nvPicPr>
        <p:blipFill>
          <a:blip r:embed="rId1"/>
          <a:stretch/>
        </p:blipFill>
        <p:spPr>
          <a:xfrm>
            <a:off x="4611600" y="2076480"/>
            <a:ext cx="3770280" cy="31622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69105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"/>
              </a:rPr>
              <a:t>TRY TO DEVELOP PROBLEM SOLVING SKILL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Associate the word ‘Difficult’ with ‘Challenge’ and try a different way rather than with ‘Failure’ or ‘Don’t bother trying.’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You can’t be good at everything = faile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"/>
              </a:rPr>
              <a:t>Smiles, praise, understanding, love and affection all affect the way the child feels and can help produce better-motivated and more confident learners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9T11:18:05Z</dcterms:created>
  <dc:creator>Colaiste Dun Iascaigh</dc:creator>
  <dc:description/>
  <dc:language>en-US</dc:language>
  <cp:lastModifiedBy>user</cp:lastModifiedBy>
  <cp:lastPrinted>2012-11-07T17:02:54Z</cp:lastPrinted>
  <dcterms:modified xsi:type="dcterms:W3CDTF">2015-12-03T10:17:40Z</dcterms:modified>
  <cp:revision>79</cp:revision>
  <dc:subject/>
  <dc:title>SECOND LEVEL EDUCATION</dc:title>
</cp:coreProperties>
</file>